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C2D3-9D25-4257-9F88-FFC21A323A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B688-1E32-41F3-A712-DE91FE605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C3148-D92C-481C-8169-965315360E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8528-2508-499C-8607-F4278A9A7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A837-B345-440E-8A95-1C97A42F6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0719-441D-4592-B980-7876D7BF74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7091-02D3-4A27-A796-E01BAC7500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AC2C-C9C9-47D7-B33B-54C02D805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C67E-532C-4BC4-9ACD-79CB57E21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A47A-EAE1-4A80-89C7-AAC15AD31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FA09-1EAE-4540-A723-C91888E6C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AC69-B212-4C7F-9B7B-546BF68AF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B567-6948-46B8-842D-9F5C6B85A7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1F03-82A6-4D92-9618-C6C12BB90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3599-87A3-41D2-88F2-4E38CB12C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9C74D-B45D-4A38-AC05-C1B9E8A65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C0E1F-6AE5-4E18-8C7E-06084104D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0601-9005-4D64-9AD3-19783A67BB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95AE-079E-4225-A442-E27E79BD4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994B-F370-4BA0-B439-97C17F1A6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F5C3B-3666-4205-AF24-0ED1DAE80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E843E-7AB1-42CE-BEC5-D22A08B75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8F7BB-83C7-476C-8999-A043FD226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CE0FD-8457-43AF-9EC1-57DB2DB16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657D6-BA2D-48CF-94B6-E5CB9E01A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DB495-36DF-4997-9194-9F492EF84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018B0-C628-43C2-B456-8FA85A186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52C3F-4372-4949-A2E9-156720473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DAE55-656B-4FE7-ADD6-2C65D94FE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C3429-DDDF-4DB1-8DC1-74758ECAC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BC109-1A87-46FA-B583-9F65D9EB2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18342-8A8C-4A3D-9809-A24891A116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2C93-7D2A-4D12-842A-70C32E7484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Mike Hasley</cp:lastModifiedBy>
  <dcterms:modified xsi:type="dcterms:W3CDTF">2009-05-22T17:29:13Z</dcterms:modified>
  <cp:revision>119</cp:revision>
  <dc:subject/>
  <dc:title>Wikispaces for Teachers A guide to using them in your classroom</dc:title>
</cp:coreProperties>
</file>